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B1E-D2E0-48AA-92A1-0EAB5A12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25B-8F2F-433F-A811-007962A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791-8A30-4E9D-9C52-281C9307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972-A9E3-42C9-A55D-9719165E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3A0-36D0-4AE4-8CAC-CDF5E60C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56C-06AB-43C2-A36A-34B36EE7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49D-6FE5-4554-BCD8-1AD31AD2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003-39A4-4F28-A103-75A4001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CF8-9174-4D4A-9743-7A259C4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1DE-2A7B-4019-A1B3-A97CB21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9FF-F204-4159-9D7F-5298D12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E40-EB1D-4D09-9342-C48C01E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642-9D55-46BD-B6F1-79564AE8A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Berlin Sans FB"/>
              </a:rPr>
              <a:t>The Historical and Biographical Le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What They Are, Why They’re Important and How to Appl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457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More Complicate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The Catcher in the R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Once More to the La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The Catcher in the R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ograph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allels between Salinger and Holden Caul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stor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cCarthy’s communis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nce More to the L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ograph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ite’s firsth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istor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Histor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90760" y="1066680"/>
            <a:ext cx="43434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By examining the times and culture the author was immersed in, we can better understand thei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A historical lens is necessary to fully understand al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733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New Histor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erlin Sans FB"/>
              </a:rPr>
              <a:t>Views history as subjective, rather than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erlin Sans FB"/>
              </a:rPr>
              <a:t>Gained momentum in the 1970’s, and championed perspective as the defining characteristic of most historical works – i.e., winners write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erlin Sans FB"/>
              </a:rPr>
              <a:t>To use a metaphor, everyone’s lens is differently colored and therefore they may see the same thing in a different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Biograph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41144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erlin Sans FB"/>
              </a:rPr>
              <a:t>View work as the product of an author’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erlin Sans FB"/>
              </a:rPr>
              <a:t>By examining the author’s life, it is easy to track their influences and what circumstances birthed cert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erlin Sans FB"/>
              </a:rPr>
              <a:t>However, some believe this style of examining work makes everything relative rather than uni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019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erlin Sans FB"/>
              </a:rPr>
              <a:t>Questions to Ask When Examining a Work Historical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When did this person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What events were occurring at the tim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they may have been influenced b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Was there a purpose to their work at the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erlin Sans FB"/>
              </a:rPr>
              <a:t>Questions to Ask When Examining a Work With the New Historicism Le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What was this person’s role in the politic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social or cultural happenings of their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Were any biases prevalent at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that may have influenced thei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erlin Sans FB"/>
              </a:rPr>
              <a:t>Questions to Ask When Examining a Work Through a Biographical Persp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Berlin Sans FB"/>
              </a:rPr>
              <a:t>How was this person rai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Berlin Sans FB"/>
              </a:rPr>
              <a:t>Did they suffer through any kind of tragedy or strug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Berlin Sans FB"/>
              </a:rPr>
              <a:t>What were their personal belief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Berlin Sans FB"/>
              </a:rPr>
              <a:t>What age/stage of life were they in when they wrote the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But you don’t wa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4864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PRESENTISM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30280" y="1295280"/>
            <a:ext cx="391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Jack and Jill went up the h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To fetch a pail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Jack fell down and broke his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And Jill came tumbling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6:49:44Z</dcterms:created>
  <dc:creator>mmcmorran</dc:creator>
  <dc:description/>
  <dc:language>en-US</dc:language>
  <cp:lastModifiedBy>kschmidt</cp:lastModifiedBy>
  <dcterms:modified xsi:type="dcterms:W3CDTF">2009-03-12T16:06:47Z</dcterms:modified>
  <cp:revision>5</cp:revision>
  <dc:subject/>
  <dc:title> The Historical and Biographical Lenses</dc:title>
</cp:coreProperties>
</file>